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0A93-4786-4EB2-9DDC-CCD3410CD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AC8F-4468-4110-A749-51F692CD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D5F3-CEAC-4EA0-8D03-FFC2E9C69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1AC4-7F88-4565-AEA8-1372D6D9E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194D-C589-4E3D-BB92-5FFFBEAFE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79BA-7BCD-4601-83EA-8A0D0DE5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E338-96E1-49EC-86C1-54D77394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6DCC-28DD-447F-B259-5A499818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471F-A1AF-4A44-958F-7439D373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5E76-2A92-4BE0-BCF9-4F71E733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C078-23D5-4714-A585-2D5995C9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F70A-5C5B-4464-B1E8-9844E236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EAE9-E04C-4891-93FD-0D825F41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0EF6-FFCE-4668-ABDE-D50455E2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41C8-7F0F-401A-B414-70B02911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6118-95F8-43C1-9FD9-B7838DD8D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4373-BC19-474D-8898-7DC303371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C5BF-5F64-4FAE-94CD-AD3BA038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D960-1529-4D0D-B96D-CB474EB1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731E-AD68-43DA-B24F-1FE39FDF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F61A-18CB-4F29-8EBC-B768ED61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220E-BF6B-44BE-B2BF-D61EFC23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A91A-CC9B-4614-A7B5-65B53FE2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E538-5384-43F4-8FF8-9F819D3E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95C5-8605-4EE7-9230-2A517C8980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9CCF-70CD-4EBA-96FF-DB465B445F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608200" y="690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02080" y="546120"/>
            <a:ext cx="35762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Romance fronteriz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benámar y el rey Don Jua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-¡Abenámar, Abenáma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moro de la morerí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l día que tú nacis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grandes señales había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staba la mar en calm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a luna estaba crecid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moro que en tal ssigno n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no debe decir menti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-No te la diré, seño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unque me cueste la vi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porque soy hijo de un mo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una cristiana cautiv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siendo yo niño y muchac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mi madre me lo decí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que mentira no dijes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176560" y="1122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63840" y="692280"/>
            <a:ext cx="33512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que era grande villaní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por tanto, pregunta, rey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que la verdad te dirí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-Yo te agradezco, Abenáma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questa tu cortesí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¿Qué castillos son aquello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¡Altos son y relucía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-El Alhambra era, seño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la otra, los alixare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abrados a maravill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l moro que los labra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ien doblas ganaba al dí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el día que no los lab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otras tanta se perdí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desque los tuvo labr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l rey le quitó la vid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porque no labre otros 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l rey del Andalucí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745720" y="690480"/>
            <a:ext cx="3564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l otro es Torres Bermeja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astillo de gran valí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l otro Generalif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huerta que par no tenía-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llí hablara el rey don Ju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bien oiréis lo que decí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-Si tú quisieras, Grana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ontigo me casarí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daréte en arras y do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 Córdoba y a Sevill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-Casada soy, rey don Ju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asad soy, que no vïud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l moro que a mí me tie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muy grande bien me quería-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Hablara allí el rey don Ju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stas palabras decí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-Echenme  acá mis lombarda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818440" y="1122480"/>
            <a:ext cx="3201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doña Sancha y doña Elvir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tiraremos a lo alt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o bajo ella se daría-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l combate era tan fuer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que grande temor ponía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01:08:43Z</dcterms:created>
  <dc:creator> </dc:creator>
  <dc:description/>
  <dc:language>en-US</dc:language>
  <cp:lastModifiedBy> </cp:lastModifiedBy>
  <dcterms:modified xsi:type="dcterms:W3CDTF">2007-09-28T01:32:39Z</dcterms:modified>
  <cp:revision>2</cp:revision>
  <dc:subject/>
  <dc:title>Diapositiva 1</dc:title>
</cp:coreProperties>
</file>